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5C5-6847-47B9-8427-950B04EC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97E-2720-4195-9226-01547033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A56-012E-475A-8BB9-1C7F5945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516-69B4-4137-B6C5-5CD04A12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9F06-33C8-43D4-98B6-F883B105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CB2D-9811-41DC-B766-FB55202D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E418-7F67-4A90-8F15-BD4AFC08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81DF-FAFD-4F75-8BDF-02473BB5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4B00-2F4F-48D9-834E-A49A5BB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3596-7F9F-4A14-BC85-3D7B7775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9317-00EA-44AD-BA79-2DB5F9DC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7C5-ACE9-4CCA-B69A-0560AED5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9051-64AA-4E76-B272-D1F817C6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2D67-67CA-4F9D-836E-E514700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4EB0-7238-4318-A81F-214DCCBB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F337-25BA-4652-A4CE-9DA73184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8ABB-FDCA-4691-99BB-3BC2FFAD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7D0-F0BE-43B1-937D-BBCCDDD8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B05-B35A-4A45-8E9D-D20F7743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868-06CB-498B-A9F7-14FFC053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53D-B4DF-441C-98E0-2217C739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6CB-4F17-4833-8EFE-F3EC2077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F48-FADF-476A-B6EE-10D73B89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C63-09FB-490B-8BE2-A3BF676D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2A22-D3D0-445B-86B6-8AE05258C5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9B5E-6263-4540-8C05-1E41F8F86C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делительные знаки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1. ЛИСТ…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6400800" y="3808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Ь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или </a:t>
            </a: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Ъ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685800" y="12193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айди слова, в которых надо писать  </a:t>
            </a:r>
            <a:r>
              <a:rPr b="1" lang="ru-RU" sz="5400" spc="-1" strike="noStrike">
                <a:solidFill>
                  <a:srgbClr val="ffffff"/>
                </a:solidFill>
                <a:latin typeface="Arial Narrow"/>
              </a:rPr>
              <a:t>ъ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38080" y="36576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2. СОЛОВ…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3. ПОД…Ё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952880" y="266688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4. ОБ…ЯВИТ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029200" y="36576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5. СЕМ…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029200" y="47242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6. В…ЮГ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2590920" y="2666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895480" y="3657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6477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867280" y="4724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228600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6019920" y="2666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Фигура, имеющая форму буквы L 19"/>
          <p:cNvSpPr/>
          <p:nvPr/>
        </p:nvSpPr>
        <p:spPr>
          <a:xfrm rot="10800000">
            <a:off x="5409720" y="2590560"/>
            <a:ext cx="685800" cy="152280"/>
          </a:xfrm>
          <a:prstGeom prst="pie">
            <a:avLst/>
          </a:prstGeom>
          <a:solidFill>
            <a:srgbClr val="fdda3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Фигура, имеющая форму буквы L 20"/>
          <p:cNvSpPr/>
          <p:nvPr/>
        </p:nvSpPr>
        <p:spPr>
          <a:xfrm rot="10800000">
            <a:off x="1371600" y="4724280"/>
            <a:ext cx="990720" cy="152640"/>
          </a:xfrm>
          <a:prstGeom prst="pie">
            <a:avLst/>
          </a:prstGeom>
          <a:solidFill>
            <a:srgbClr val="fdda3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Месяц 28"/>
          <p:cNvSpPr/>
          <p:nvPr/>
        </p:nvSpPr>
        <p:spPr>
          <a:xfrm rot="5400000">
            <a:off x="6095880" y="3962160"/>
            <a:ext cx="22860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Месяц 29"/>
          <p:cNvSpPr/>
          <p:nvPr/>
        </p:nvSpPr>
        <p:spPr>
          <a:xfrm rot="5400000">
            <a:off x="2171520" y="2628720"/>
            <a:ext cx="22860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Месяц 30"/>
          <p:cNvSpPr/>
          <p:nvPr/>
        </p:nvSpPr>
        <p:spPr>
          <a:xfrm rot="5400000">
            <a:off x="6019560" y="2971800"/>
            <a:ext cx="22860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Месяц 31"/>
          <p:cNvSpPr/>
          <p:nvPr/>
        </p:nvSpPr>
        <p:spPr>
          <a:xfrm rot="5400000">
            <a:off x="2057040" y="1905120"/>
            <a:ext cx="22860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делительные знаки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1. ДРУЗ…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400800" y="3808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Ь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или </a:t>
            </a: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Ъ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85800" y="12193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айди слова, в которых надо писать  </a:t>
            </a:r>
            <a:r>
              <a:rPr b="1" lang="ru-RU" sz="5400" spc="-1" strike="noStrike">
                <a:solidFill>
                  <a:srgbClr val="ffffff"/>
                </a:solidFill>
                <a:latin typeface="Arial Narrow"/>
              </a:rPr>
              <a:t>Ь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838080" y="36576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2. С…ЕЗ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3. ПЕР…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952880" y="266688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4. ВОРОБ…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29200" y="36576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5. ПОД…ЕХА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029200" y="47242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6. Ш…Ю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2514600" y="2666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220968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6934320" y="2666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5943600" y="4724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Фигура, имеющая форму буквы L 15"/>
          <p:cNvSpPr/>
          <p:nvPr/>
        </p:nvSpPr>
        <p:spPr>
          <a:xfrm rot="10800000">
            <a:off x="1142640" y="3581280"/>
            <a:ext cx="609480" cy="152640"/>
          </a:xfrm>
          <a:prstGeom prst="pie">
            <a:avLst/>
          </a:prstGeom>
          <a:solidFill>
            <a:srgbClr val="fdda3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1600200" y="3657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Фигура, имеющая форму буквы L 17"/>
          <p:cNvSpPr/>
          <p:nvPr/>
        </p:nvSpPr>
        <p:spPr>
          <a:xfrm rot="10800000">
            <a:off x="5562360" y="3581280"/>
            <a:ext cx="990360" cy="152640"/>
          </a:xfrm>
          <a:prstGeom prst="pie">
            <a:avLst/>
          </a:prstGeom>
          <a:solidFill>
            <a:srgbClr val="fdda3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6477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делительные знаки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1. Л…Ю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6400800" y="3808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Ь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или </a:t>
            </a: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Ъ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685800" y="12193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айди слова, в которых надо писать  </a:t>
            </a:r>
            <a:r>
              <a:rPr b="1" lang="ru-RU" sz="5400" spc="-1" strike="noStrike">
                <a:solidFill>
                  <a:srgbClr val="ffffff"/>
                </a:solidFill>
                <a:latin typeface="Arial Narrow"/>
              </a:rPr>
              <a:t>ъ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838080" y="36576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2.  П…ЁТ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3. ВАРЕН…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724280" y="266688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4.  ОБ…ЯВЛЕНИ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724280" y="36576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5. РУЖ…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724280" y="472428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6. ПОД…ЁМ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5943600" y="2666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Фигура, имеющая форму буквы L 11"/>
          <p:cNvSpPr/>
          <p:nvPr/>
        </p:nvSpPr>
        <p:spPr>
          <a:xfrm rot="10800000">
            <a:off x="5257440" y="2590560"/>
            <a:ext cx="762120" cy="152280"/>
          </a:xfrm>
          <a:prstGeom prst="pie">
            <a:avLst/>
          </a:prstGeom>
          <a:solidFill>
            <a:srgbClr val="fdda3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6172200" y="4724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Фигура, имеющая форму буквы L 13"/>
          <p:cNvSpPr/>
          <p:nvPr/>
        </p:nvSpPr>
        <p:spPr>
          <a:xfrm rot="10800000">
            <a:off x="5257800" y="4647960"/>
            <a:ext cx="990720" cy="152280"/>
          </a:xfrm>
          <a:prstGeom prst="pie">
            <a:avLst/>
          </a:prstGeom>
          <a:solidFill>
            <a:srgbClr val="fdda3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1752480" y="2666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1828800" y="3657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2819520" y="4800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 Саченко</dc:creator>
  <dc:description/>
  <dc:language>en-US</dc:language>
  <cp:lastModifiedBy>Игорь Саченко</cp:lastModifiedBy>
  <dcterms:modified xsi:type="dcterms:W3CDTF">2008-12-14T13:13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